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C55-3757-49E0-B0A9-EB9E5803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E39-61FD-446D-A1ED-AF42FC67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CBE-456C-4078-8D0A-03564F06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55B-D4E6-4164-901D-4FC554A8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6C15-53EA-4B77-8D9D-4315B1F6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25B0-5B47-465C-92EE-B5630965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ADD0-0902-4DE7-8DF5-95DADA4E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0CA8-9277-44EF-AD18-BD79E079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C851-1198-4F66-8466-72994798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EB76-ECEF-490F-A468-4A5BA525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F831-72C9-478C-8B32-03181334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2DB-B400-4B89-A28E-1BCC2184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F6F8-781C-41D3-B1AD-69D9BED2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1357-5381-475F-B710-C1C448D6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D8B1-87E0-4080-8F49-9C151711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70DC-ECB6-43F4-973A-FE549F89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59FB-0399-436B-AC30-927B6C46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B49-E38A-4949-92AF-8C222D64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371-8481-43CA-A1AD-9191F4B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98F-9B74-4A54-BAA7-28361B39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9B9-DF58-4A8D-9EB2-8B2FE01D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B21-9BEE-438E-8D8C-1EDE061F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699-2D37-49FF-A6A7-D6D8B7B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192-6E76-4FED-AAC6-69D584A4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07000" y="0"/>
            <a:ext cx="2151000" cy="9142200"/>
            <a:chOff x="-207000" y="0"/>
            <a:chExt cx="2151000" cy="9142200"/>
          </a:xfrm>
        </p:grpSpPr>
        <p:sp>
          <p:nvSpPr>
            <p:cNvPr id="1" name="Freeform 3"/>
            <p:cNvSpPr/>
            <p:nvPr/>
          </p:nvSpPr>
          <p:spPr>
            <a:xfrm>
              <a:off x="-6480" y="6904800"/>
              <a:ext cx="561960" cy="169704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-23400" y="5211720"/>
              <a:ext cx="801360" cy="931320"/>
              <a:chOff x="-23400" y="5211720"/>
              <a:chExt cx="801360" cy="93132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-28800" y="5289120"/>
                <a:ext cx="302760" cy="19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126720" y="5789160"/>
                <a:ext cx="518040" cy="164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372240" y="5633640"/>
                <a:ext cx="541440" cy="83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06560" y="3674520"/>
              <a:ext cx="845640" cy="162576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21240" y="3578400"/>
              <a:ext cx="1965240" cy="3925440"/>
              <a:chOff x="-21240" y="3578400"/>
              <a:chExt cx="1965240" cy="39254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50280" y="3643920"/>
                <a:ext cx="731520" cy="1340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25640" y="3858840"/>
                <a:ext cx="612360" cy="13622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18600" y="4141440"/>
                <a:ext cx="217080" cy="6897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672480" y="5086800"/>
                <a:ext cx="198720" cy="411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614520" y="5180400"/>
                <a:ext cx="48960" cy="2437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551160" y="5572080"/>
                <a:ext cx="1392840" cy="1931760"/>
                <a:chOff x="551160" y="5572080"/>
                <a:chExt cx="1392840" cy="19317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785880" y="5610600"/>
                  <a:ext cx="631440" cy="91116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1645200" y="6689520"/>
                  <a:ext cx="146160" cy="37404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1719720" y="7340400"/>
                  <a:ext cx="265680" cy="630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313200" y="8219880"/>
              <a:ext cx="673920" cy="826920"/>
              <a:chOff x="313200" y="8219880"/>
              <a:chExt cx="673920" cy="82692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731880" y="8275320"/>
                <a:ext cx="262440" cy="189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451800" y="8731080"/>
                <a:ext cx="448920" cy="15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174600" y="8620200"/>
                <a:ext cx="469440" cy="79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231120" y="2394360"/>
              <a:ext cx="587160" cy="897840"/>
              <a:chOff x="231120" y="2394360"/>
              <a:chExt cx="587160" cy="89784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553680" y="2432520"/>
                <a:ext cx="275760" cy="223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426600" y="2954160"/>
                <a:ext cx="471960" cy="185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59400" y="2955960"/>
                <a:ext cx="493200" cy="94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969840" y="0"/>
              <a:ext cx="410040" cy="775440"/>
              <a:chOff x="969840" y="0"/>
              <a:chExt cx="410040" cy="77544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969840" y="0"/>
                <a:ext cx="129960" cy="291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157400" y="137880"/>
                <a:ext cx="222480" cy="241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112760" y="652320"/>
                <a:ext cx="232560" cy="123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02960" y="199080"/>
              <a:ext cx="832320" cy="159984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287280" y="7205040"/>
              <a:ext cx="156960" cy="353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315720" y="7603200"/>
              <a:ext cx="78480" cy="907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2600" y="8699760"/>
              <a:ext cx="140400" cy="442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-360" y="8399160"/>
              <a:ext cx="154440" cy="2707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-360" y="8358840"/>
              <a:ext cx="55800" cy="1818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-360" y="6855840"/>
              <a:ext cx="591840" cy="15660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22680" y="867240"/>
              <a:ext cx="409680" cy="518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287280" y="1600200"/>
              <a:ext cx="198720" cy="24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682560" y="604800"/>
              <a:ext cx="174960" cy="338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280080" y="1525320"/>
              <a:ext cx="73440" cy="205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696240" y="986400"/>
              <a:ext cx="85320" cy="86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-360" y="1875240"/>
              <a:ext cx="428760" cy="13755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65520" y="177120"/>
              <a:ext cx="957240" cy="14518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E580-D8E8-4769-9E98-CD95AB7FD8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48240" y="0"/>
            <a:ext cx="6987600" cy="9143280"/>
            <a:chOff x="-48240" y="0"/>
            <a:chExt cx="6987600" cy="9143280"/>
          </a:xfrm>
        </p:grpSpPr>
        <p:grpSp>
          <p:nvGrpSpPr>
            <p:cNvPr id="85" name="Group 3"/>
            <p:cNvGrpSpPr/>
            <p:nvPr/>
          </p:nvGrpSpPr>
          <p:grpSpPr>
            <a:xfrm>
              <a:off x="3782520" y="304920"/>
              <a:ext cx="3156840" cy="7855920"/>
              <a:chOff x="3782520" y="304920"/>
              <a:chExt cx="3156840" cy="7855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4873680" y="479160"/>
                <a:ext cx="1586520" cy="3142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5536080" y="2635920"/>
                <a:ext cx="679680" cy="11235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5102280" y="3447000"/>
                <a:ext cx="329400" cy="526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5355000" y="909000"/>
                <a:ext cx="291600" cy="7340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5349240" y="3522600"/>
                <a:ext cx="122760" cy="4424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5284800" y="1655280"/>
                <a:ext cx="142560" cy="1904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4498200" y="3861720"/>
                <a:ext cx="392400" cy="435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25200" y="4141800"/>
              <a:ext cx="384120" cy="13737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99800" y="2666520"/>
              <a:ext cx="1498320" cy="3242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5524200"/>
              <a:ext cx="953280" cy="971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068120" y="6042960"/>
              <a:ext cx="421200" cy="9817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950400" y="6305040"/>
              <a:ext cx="103320" cy="5796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416600" y="6927480"/>
              <a:ext cx="1318680" cy="22158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3064680" y="1551960"/>
              <a:ext cx="964440" cy="1334160"/>
              <a:chOff x="3064680" y="1551960"/>
              <a:chExt cx="964440" cy="1334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3232800" y="1647360"/>
                <a:ext cx="380880" cy="2840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3414960" y="2288880"/>
                <a:ext cx="651960" cy="235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2973960" y="2516040"/>
                <a:ext cx="681480" cy="119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4192560" y="493200"/>
              <a:ext cx="732960" cy="905760"/>
              <a:chOff x="4192560" y="493200"/>
              <a:chExt cx="732960" cy="905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4312800" y="1102320"/>
                <a:ext cx="238320" cy="27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4168080" y="687960"/>
                <a:ext cx="407880" cy="225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4580280" y="654840"/>
                <a:ext cx="426600" cy="1148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577080" y="7047000"/>
              <a:ext cx="1083600" cy="929160"/>
              <a:chOff x="577080" y="7047000"/>
              <a:chExt cx="1083600" cy="9291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369080" y="7459920"/>
                <a:ext cx="188280" cy="399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939600" y="7579800"/>
                <a:ext cx="322200" cy="332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593280" y="7132680"/>
                <a:ext cx="336960" cy="169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182520" y="699120"/>
              <a:ext cx="1487160" cy="1468080"/>
              <a:chOff x="182520" y="699120"/>
              <a:chExt cx="1487160" cy="146808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160280" y="1674720"/>
                <a:ext cx="473760" cy="397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534600" y="971640"/>
                <a:ext cx="811440" cy="3304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-7560" y="1415880"/>
                <a:ext cx="847800" cy="167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5556600" y="5011200"/>
              <a:ext cx="903240" cy="2008080"/>
              <a:chOff x="5556600" y="5011200"/>
              <a:chExt cx="903240" cy="20080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5632920" y="6290640"/>
                <a:ext cx="266400" cy="707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5942880" y="5974920"/>
                <a:ext cx="456120" cy="587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5603040" y="5060880"/>
                <a:ext cx="477000" cy="299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448640" y="3960"/>
              <a:ext cx="1026000" cy="1875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2568240" y="215640"/>
              <a:ext cx="810360" cy="12549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2376720" y="1815120"/>
              <a:ext cx="392400" cy="587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2646720" y="1708920"/>
              <a:ext cx="146520" cy="493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1908000" y="0"/>
              <a:ext cx="147600" cy="2559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2586240" y="2619360"/>
              <a:ext cx="467640" cy="48682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3911400"/>
              <a:ext cx="42840" cy="2790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E5B3-49F8-472A-BDDC-4D04CD8ED4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916280" y="324000"/>
            <a:ext cx="26985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МОУ СОШ № 13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68" name="WordArt 5"/>
          <p:cNvSpPr txBox="1"/>
          <p:nvPr/>
        </p:nvSpPr>
        <p:spPr>
          <a:xfrm>
            <a:off x="765000" y="755640"/>
            <a:ext cx="50482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деля пятиклассни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20640" y="1711440"/>
          <a:ext cx="5761080" cy="7443720"/>
        </p:xfrm>
        <a:graphic>
          <a:graphicData uri="http://schemas.openxmlformats.org/drawingml/2006/table">
            <a:tbl>
              <a:tblPr/>
              <a:tblGrid>
                <a:gridCol w="1243080"/>
                <a:gridCol w="2343240"/>
                <a:gridCol w="217476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Franklin Gothic Medium Cond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Franklin Gothic Medium Cond"/>
                        </a:rPr>
                        <a:t>Название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Franklin Gothic Medium Cond"/>
                        </a:rPr>
                        <a:t>Приглашаем к сотрудничест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99"/>
                          </a:solidFill>
                          <a:latin typeface="Forte"/>
                        </a:rPr>
                        <a:t>13.09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Franklin Gothic Medium Cond"/>
                        </a:rPr>
                        <a:t>День вежлив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8000"/>
                          </a:solidFill>
                          <a:latin typeface="Franklin Gothic Medium Cond"/>
                        </a:rPr>
                        <a:t>Покажите при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99"/>
                          </a:solidFill>
                          <a:latin typeface="Forte"/>
                        </a:rPr>
                        <a:t>14.09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Franklin Gothic Medium Cond"/>
                        </a:rPr>
                        <a:t>День игруш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8000"/>
                          </a:solidFill>
                          <a:latin typeface="Franklin Gothic Medium Cond"/>
                        </a:rPr>
                        <a:t>Поучаствуйте в иг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99"/>
                          </a:solidFill>
                          <a:latin typeface="Forte"/>
                        </a:rPr>
                        <a:t>15.09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Franklin Gothic Medium Cond"/>
                        </a:rPr>
                        <a:t>День отмет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8000"/>
                          </a:solidFill>
                          <a:latin typeface="Franklin Gothic Medium Cond"/>
                        </a:rPr>
                        <a:t>Похвалите за успех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99"/>
                          </a:solidFill>
                          <a:latin typeface="Forte"/>
                        </a:rPr>
                        <a:t>16.09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Franklin Gothic Medium Cond"/>
                        </a:rPr>
                        <a:t>День кни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8000"/>
                          </a:solidFill>
                          <a:latin typeface="Franklin Gothic Medium Cond"/>
                        </a:rPr>
                        <a:t>Приобщитесь к чт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99"/>
                          </a:solidFill>
                          <a:latin typeface="Forte"/>
                        </a:rPr>
                        <a:t>17.09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Franklin Gothic Medium Cond"/>
                        </a:rPr>
                        <a:t>День Открытых двер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8000"/>
                          </a:solidFill>
                          <a:latin typeface="Franklin Gothic Medium Cond"/>
                        </a:rPr>
                        <a:t>Будьте гостеприим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 C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146" descr="1 сентября 9"/>
          <p:cNvPicPr/>
          <p:nvPr/>
        </p:nvPicPr>
        <p:blipFill>
          <a:blip r:embed="rId1">
            <a:lum bright="18000"/>
          </a:blip>
          <a:srcRect l="0" t="0" r="0" b="11282"/>
          <a:stretch/>
        </p:blipFill>
        <p:spPr>
          <a:xfrm>
            <a:off x="333360" y="5724360"/>
            <a:ext cx="3166920" cy="303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8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00640" y="5435640"/>
            <a:ext cx="1327320" cy="130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9" descr=""/>
          <p:cNvPicPr/>
          <p:nvPr/>
        </p:nvPicPr>
        <p:blipFill>
          <a:blip r:embed="rId3"/>
          <a:stretch/>
        </p:blipFill>
        <p:spPr>
          <a:xfrm rot="20946600">
            <a:off x="3322800" y="5376960"/>
            <a:ext cx="1584000" cy="1290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51"/>
          <p:cNvSpPr/>
          <p:nvPr/>
        </p:nvSpPr>
        <p:spPr>
          <a:xfrm rot="20973600">
            <a:off x="3213000" y="6948360"/>
            <a:ext cx="2311560" cy="6541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дравствуй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WordArt 152"/>
          <p:cNvSpPr txBox="1"/>
          <p:nvPr/>
        </p:nvSpPr>
        <p:spPr>
          <a:xfrm rot="435000">
            <a:off x="5660640" y="7451640"/>
            <a:ext cx="857160" cy="13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75" name="Rectangle 153"/>
          <p:cNvSpPr/>
          <p:nvPr/>
        </p:nvSpPr>
        <p:spPr>
          <a:xfrm rot="20973600">
            <a:off x="3141720" y="7956720"/>
            <a:ext cx="2311200" cy="653760"/>
          </a:xfrm>
          <a:prstGeom prst="rect">
            <a:avLst/>
          </a:prstGeom>
          <a:solidFill>
            <a:srgbClr val="0000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1773360" y="468360"/>
            <a:ext cx="41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вежливос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43080" y="2133720"/>
          <a:ext cx="6172200" cy="5742000"/>
        </p:xfrm>
        <a:graphic>
          <a:graphicData uri="http://schemas.openxmlformats.org/drawingml/2006/table">
            <a:tbl>
              <a:tblPr/>
              <a:tblGrid>
                <a:gridCol w="1645920"/>
                <a:gridCol w="4526280"/>
              </a:tblGrid>
              <a:tr h="70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ЭКРАН ВЕЖЛИВЫХ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70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вежливых с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82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вежливых с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19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вежливых с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AutoShape 40"/>
          <p:cNvSpPr/>
          <p:nvPr/>
        </p:nvSpPr>
        <p:spPr>
          <a:xfrm>
            <a:off x="1844640" y="1979640"/>
            <a:ext cx="4726080" cy="2879640"/>
          </a:xfrm>
          <a:prstGeom prst="cloudCallout">
            <a:avLst>
              <a:gd name="adj1" fmla="val -33740"/>
              <a:gd name="adj2" fmla="val 70009"/>
            </a:avLst>
          </a:prstGeom>
          <a:solidFill>
            <a:srgbClr val="00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87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ежливо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11" descr="AG00315_"/>
          <p:cNvPicPr/>
          <p:nvPr/>
        </p:nvPicPr>
        <p:blipFill>
          <a:blip r:embed="rId1"/>
          <a:stretch/>
        </p:blipFill>
        <p:spPr>
          <a:xfrm>
            <a:off x="620640" y="5724360"/>
            <a:ext cx="223200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1"/>
          <p:cNvSpPr/>
          <p:nvPr/>
        </p:nvSpPr>
        <p:spPr>
          <a:xfrm>
            <a:off x="2276640" y="3276720"/>
            <a:ext cx="3600360" cy="2288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ВИКТОРИ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ДЛЯ УЧАЩИХС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5 КЛАСС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3080" y="2133720"/>
          <a:ext cx="6172200" cy="6183360"/>
        </p:xfrm>
        <a:graphic>
          <a:graphicData uri="http://schemas.openxmlformats.org/drawingml/2006/table">
            <a:tbl>
              <a:tblPr/>
              <a:tblGrid>
                <a:gridCol w="1645920"/>
                <a:gridCol w="4526280"/>
              </a:tblGrid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AutoShape 22"/>
          <p:cNvSpPr/>
          <p:nvPr/>
        </p:nvSpPr>
        <p:spPr>
          <a:xfrm>
            <a:off x="476280" y="2916360"/>
            <a:ext cx="5257800" cy="3240000"/>
          </a:xfrm>
          <a:prstGeom prst="cloudCallout">
            <a:avLst>
              <a:gd name="adj1" fmla="val 18023"/>
              <a:gd name="adj2" fmla="val 65532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правились с заданиями отлично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лодцы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1" descr="AG00315_"/>
          <p:cNvPicPr/>
          <p:nvPr/>
        </p:nvPicPr>
        <p:blipFill>
          <a:blip r:embed="rId1"/>
          <a:stretch/>
        </p:blipFill>
        <p:spPr>
          <a:xfrm>
            <a:off x="4076640" y="5796000"/>
            <a:ext cx="2232000" cy="29527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24"/>
          <p:cNvSpPr txBox="1"/>
          <p:nvPr/>
        </p:nvSpPr>
        <p:spPr>
          <a:xfrm rot="21078600">
            <a:off x="907560" y="755640"/>
            <a:ext cx="5329440" cy="12240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44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0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ы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0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0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ике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0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2349360" y="611280"/>
            <a:ext cx="41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игрушк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43080" y="2133720"/>
          <a:ext cx="6172200" cy="5881680"/>
        </p:xfrm>
        <a:graphic>
          <a:graphicData uri="http://schemas.openxmlformats.org/drawingml/2006/table">
            <a:tbl>
              <a:tblPr/>
              <a:tblGrid>
                <a:gridCol w="1357200"/>
                <a:gridCol w="481500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Наши вожаты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Ярулина Лена 9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нигирева Лена 9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Груменцева Мар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анова Настя 11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Титова Маша 1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унцова Ю 1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нязев Алеша 9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Овчинников Юра 9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Picture 11" descr="AG00315_"/>
          <p:cNvPicPr/>
          <p:nvPr/>
        </p:nvPicPr>
        <p:blipFill>
          <a:blip r:embed="rId1"/>
          <a:stretch/>
        </p:blipFill>
        <p:spPr>
          <a:xfrm>
            <a:off x="4076640" y="5796000"/>
            <a:ext cx="2232000" cy="29527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36"/>
          <p:cNvSpPr/>
          <p:nvPr/>
        </p:nvSpPr>
        <p:spPr>
          <a:xfrm>
            <a:off x="1268280" y="2843280"/>
            <a:ext cx="4538880" cy="3168720"/>
          </a:xfrm>
          <a:prstGeom prst="cloudCallout">
            <a:avLst>
              <a:gd name="adj1" fmla="val 856"/>
              <a:gd name="adj2" fmla="val 36324"/>
            </a:avLst>
          </a:prstGeom>
          <a:solidFill>
            <a:srgbClr val="0000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ольшое  спасибо !!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73360" y="468360"/>
            <a:ext cx="41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отметк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43080" y="2133720"/>
          <a:ext cx="6172200" cy="5742000"/>
        </p:xfrm>
        <a:graphic>
          <a:graphicData uri="http://schemas.openxmlformats.org/drawingml/2006/table">
            <a:tbl>
              <a:tblPr/>
              <a:tblGrid>
                <a:gridCol w="1645920"/>
                <a:gridCol w="4526280"/>
              </a:tblGrid>
              <a:tr h="70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ЭКРАН </a:t>
                      </a:r>
                      <a:r>
                        <a:rPr b="1" i="1" lang="ru-RU" sz="2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«Пятер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пяте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«5» - 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«5» - 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«5» - 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11" descr="AG00315_"/>
          <p:cNvPicPr/>
          <p:nvPr/>
        </p:nvPicPr>
        <p:blipFill>
          <a:blip r:embed="rId1"/>
          <a:stretch/>
        </p:blipFill>
        <p:spPr>
          <a:xfrm>
            <a:off x="620640" y="5724360"/>
            <a:ext cx="2232000" cy="295308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4"/>
          <p:cNvSpPr/>
          <p:nvPr/>
        </p:nvSpPr>
        <p:spPr>
          <a:xfrm>
            <a:off x="2421000" y="4284720"/>
            <a:ext cx="4103640" cy="2303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УРА ! ОТЛИЧНО !!!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7"/>
          <p:cNvSpPr/>
          <p:nvPr/>
        </p:nvSpPr>
        <p:spPr>
          <a:xfrm>
            <a:off x="476280" y="1835280"/>
            <a:ext cx="5257800" cy="3240000"/>
          </a:xfrm>
          <a:prstGeom prst="cloudCallout">
            <a:avLst>
              <a:gd name="adj1" fmla="val 18023"/>
              <a:gd name="adj2" fmla="val 65532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ЕНИЕ – ЛУЧШЕЕ УЧЕНИЕ 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11" descr="AG00315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292640" y="5651640"/>
            <a:ext cx="2232000" cy="2952720"/>
          </a:xfrm>
          <a:prstGeom prst="rect">
            <a:avLst/>
          </a:prstGeom>
          <a:ln w="0">
            <a:noFill/>
          </a:ln>
        </p:spPr>
      </p:pic>
      <p:sp>
        <p:nvSpPr>
          <p:cNvPr id="195" name="WordArt 21"/>
          <p:cNvSpPr txBox="1"/>
          <p:nvPr/>
        </p:nvSpPr>
        <p:spPr>
          <a:xfrm>
            <a:off x="1773360" y="468360"/>
            <a:ext cx="41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книг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6" name="Picture 24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45000" y="2484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5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76280" y="5867280"/>
            <a:ext cx="381636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WordArt 27"/>
          <p:cNvSpPr txBox="1"/>
          <p:nvPr/>
        </p:nvSpPr>
        <p:spPr>
          <a:xfrm>
            <a:off x="1700280" y="6659640"/>
            <a:ext cx="180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62 че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33360" y="1908000"/>
          <a:ext cx="6172200" cy="6224760"/>
        </p:xfrm>
        <a:graphic>
          <a:graphicData uri="http://schemas.openxmlformats.org/drawingml/2006/table">
            <a:tbl>
              <a:tblPr/>
              <a:tblGrid>
                <a:gridCol w="1646280"/>
                <a:gridCol w="452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WordArt 22"/>
          <p:cNvSpPr txBox="1"/>
          <p:nvPr/>
        </p:nvSpPr>
        <p:spPr>
          <a:xfrm>
            <a:off x="549360" y="611280"/>
            <a:ext cx="590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ОЧНАЯ ВИКТОРИ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2205000" y="2195640"/>
            <a:ext cx="143208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4005360" y="2268360"/>
            <a:ext cx="2141280" cy="2087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3"/>
          <a:stretch/>
        </p:blipFill>
        <p:spPr>
          <a:xfrm>
            <a:off x="3860640" y="4932360"/>
            <a:ext cx="230220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4"/>
          <a:srcRect l="13796" t="0" r="34352" b="17776"/>
          <a:stretch/>
        </p:blipFill>
        <p:spPr>
          <a:xfrm>
            <a:off x="2205000" y="5148360"/>
            <a:ext cx="1281240" cy="23050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7"/>
          <p:cNvSpPr/>
          <p:nvPr/>
        </p:nvSpPr>
        <p:spPr>
          <a:xfrm>
            <a:off x="620640" y="1979640"/>
            <a:ext cx="5257800" cy="3240000"/>
          </a:xfrm>
          <a:prstGeom prst="cloudCallout">
            <a:avLst>
              <a:gd name="adj1" fmla="val 1569"/>
              <a:gd name="adj2" fmla="val 158916"/>
            </a:avLst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згадали все загад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лодцы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1" descr="AG00315_"/>
          <p:cNvPicPr/>
          <p:nvPr/>
        </p:nvPicPr>
        <p:blipFill>
          <a:blip r:embed="rId5"/>
          <a:stretch/>
        </p:blipFill>
        <p:spPr>
          <a:xfrm>
            <a:off x="4076640" y="5796000"/>
            <a:ext cx="223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1773360" y="468360"/>
            <a:ext cx="41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Открытых двер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Picture 11" descr="AG00315_"/>
          <p:cNvPicPr/>
          <p:nvPr/>
        </p:nvPicPr>
        <p:blipFill>
          <a:blip r:embed="rId1"/>
          <a:stretch/>
        </p:blipFill>
        <p:spPr>
          <a:xfrm>
            <a:off x="333360" y="1979640"/>
            <a:ext cx="2232000" cy="2952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3"/>
          <p:cNvSpPr/>
          <p:nvPr/>
        </p:nvSpPr>
        <p:spPr>
          <a:xfrm>
            <a:off x="2286000" y="1785960"/>
            <a:ext cx="4103640" cy="2303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Здравствуйте 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Прямоугольник 8"/>
          <p:cNvSpPr/>
          <p:nvPr/>
        </p:nvSpPr>
        <p:spPr>
          <a:xfrm>
            <a:off x="1357200" y="5357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школе так заведено -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се мы вместе - заод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се мы - дружная семь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Хоть отдельно каждый - 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5:55:12Z</dcterms:created>
  <dc:creator>Comp 11</dc:creator>
  <dc:description/>
  <dc:language>en-US</dc:language>
  <cp:lastModifiedBy>Admin</cp:lastModifiedBy>
  <dcterms:modified xsi:type="dcterms:W3CDTF">2010-09-15T14:18:08Z</dcterms:modified>
  <cp:revision>10</cp:revision>
  <dc:subject/>
  <dc:title>Слайд 1</dc:title>
</cp:coreProperties>
</file>