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4018-AEB4-48F3-B896-5798FC7A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CC19-8D32-4D57-8784-BE8E196E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BEE0-09C6-4592-AC6D-F433816A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76A5-8985-49E2-AE64-4FE17427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9A0A-FD07-4180-BCB0-11EC8C0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9FB-D7A8-4A12-A4B9-B2F90D16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8C40-90BC-4CE3-993A-10E6BE2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3111-4DB0-454E-8666-276C431C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C6F9-A92A-4957-ADE3-D9445EC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587D-A055-4B2A-9152-1E08F88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C35-0690-42AC-A5A3-5103B2F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E930-EB7D-462C-8CF1-653A8981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72B2-4C25-4674-A91C-B4240D5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E03D-1955-499A-8F99-A750B9D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D3DC-38FB-4C9E-887D-A29B7F7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1DD-9F30-4EBA-A3A9-DE3215B3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C29-F202-460F-BB1B-FDE3D2FB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695E-EB74-4435-8F99-BE6DD8D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29A5-AD5C-43DE-B45B-1E68989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DDEA-8F5C-43CF-8AE5-741996F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02D5-6F91-42DB-A352-D6CB7AD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3F2D-41B3-451D-A3B4-BC428B8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B12A-27D8-47FE-92F7-3967E90B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6147-5C18-4FF9-8805-D6C5533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C6F4-EDB2-4328-90C9-7F1EE7861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69AF-DE13-4F26-925B-8F53444754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 rot="21078600">
            <a:off x="1547280" y="836640"/>
            <a:ext cx="496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ик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221000"/>
            <a:ext cx="3744720" cy="2376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ЛЯ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5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8. Нужно ли в плохую погоду мыть сапоги и ботинки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844640"/>
            <a:ext cx="3671640" cy="187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, они же в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 испачк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916280"/>
            <a:ext cx="64944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4292640"/>
            <a:ext cx="3672000" cy="1441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до попроси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мыть обу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абуш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4365720"/>
            <a:ext cx="3671640" cy="19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ыть оба ботин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в помещении носи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менную обу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1916280"/>
            <a:ext cx="3672000" cy="180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жно м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лько нос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вого бот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4508640"/>
            <a:ext cx="648000" cy="647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9. В каких местах не возбраняется носить серьги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 нос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 кула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ить за соб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тележ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 уша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43700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437000"/>
            <a:ext cx="79200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10. Можно ли списывать на урок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1916280"/>
            <a:ext cx="367164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, если зн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 кого списы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989000"/>
            <a:ext cx="6494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4292640"/>
            <a:ext cx="367200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исы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порядоч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это никому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несет поль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4365720"/>
            <a:ext cx="374472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что, разве мо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–то по – друго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1916280"/>
            <a:ext cx="367200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, если вежли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просить учите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йти из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4437000"/>
            <a:ext cx="574560" cy="5763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76720" y="206064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1. С какой громкостью можно разговаривать на уроке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чень гром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уроке луч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разговар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разре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епо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508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2. Что сказать, если ты опоздал(а) на полчаса на контрольную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773360"/>
            <a:ext cx="3671640" cy="15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чи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- 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98900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4221000"/>
            <a:ext cx="4248360" cy="1729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винитьс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ьше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аздывать в шко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4365720"/>
            <a:ext cx="3671640" cy="143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прорв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таре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1773360"/>
            <a:ext cx="4176720" cy="19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ать, что око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шего до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опали дор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нужно было дол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естись в обх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508640"/>
            <a:ext cx="86544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1844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4437000"/>
            <a:ext cx="79200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13.Как повысить свою успеваемост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484280"/>
            <a:ext cx="4392360" cy="187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больше гулять на ул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потому, что свежий возд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рошо влияет на работу моз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1628640"/>
            <a:ext cx="57636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716280"/>
            <a:ext cx="3672000" cy="20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уж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ного заним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789360"/>
            <a:ext cx="4248000" cy="194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нимательнее спис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контрольных работ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 отли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1484280"/>
            <a:ext cx="3889440" cy="180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пить книжку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товыми решени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машни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860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1773360"/>
            <a:ext cx="71928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005360"/>
            <a:ext cx="792000" cy="79200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14.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Что делать, если ты не знаешь, как ответить на вопрос учителя, потому что уроки сделать было некогд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имате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ш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ска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3933720"/>
            <a:ext cx="3672000" cy="172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обходим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жеднев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олн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ие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3860640"/>
            <a:ext cx="3671640" cy="194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прос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о – нибуд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угого отве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 т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лать ви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нич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слыши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076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4221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5.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Соседку (соседа) по парте все время обзывают мальчишки. Как ты поступишь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916280"/>
            <a:ext cx="3671640" cy="15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сядеш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 другую пар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4292640"/>
            <a:ext cx="367200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учишь её (е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ным обзывал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4365720"/>
            <a:ext cx="3671640" cy="143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же будешь е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го) драз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916280"/>
            <a:ext cx="3672000" cy="1441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позволиш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кому её (его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и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4508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важаемы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частники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00000" y="2133720"/>
            <a:ext cx="7631280" cy="39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  ЗА       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Вопросы виктори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Вопрос №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Вопрос №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Вопрос №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Вопрос №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опрос №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Вопрос №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5805360"/>
            <a:ext cx="482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прос №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1. Красиво ли показывать язык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916280"/>
            <a:ext cx="3671640" cy="15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асиво, ес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казывать краси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205000"/>
            <a:ext cx="79200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508640"/>
            <a:ext cx="3672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казыв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язык некраси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508640"/>
            <a:ext cx="3816360" cy="1441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ач, наприме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ам об этом проси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начит, людя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то нрав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1916280"/>
            <a:ext cx="3672000" cy="15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аси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показыв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язык сверну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труб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79736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2205000"/>
            <a:ext cx="71928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97360"/>
            <a:ext cx="79200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. Что надеть в школу, идя на уроки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916280"/>
            <a:ext cx="3743280" cy="15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амое красиво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имеется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оем гардер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149720"/>
            <a:ext cx="3672000" cy="1511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– нибудь 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абушкиного сунду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бы отличаться от вс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221000"/>
            <a:ext cx="388944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– нибудь ярко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бы не потеря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1916280"/>
            <a:ext cx="3672000" cy="1441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овой костю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4508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292640"/>
            <a:ext cx="647640" cy="576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3. Какой длины волосы соответствуют приличиям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мет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сантиме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пл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 вс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- раз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ухо, 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лько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вой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443700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4437000"/>
            <a:ext cx="79200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4. Сколько раз в день нужно чистить зубы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тря чь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их вообще чистя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ва раза в д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жет, лучше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пачк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43700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5.Сколько грамм грязи разрешается иметь под ногтям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ст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гти долж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ыть чис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оль угодно, лиш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ы носить бы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тяж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вно стольк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бы хвати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садить какт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4508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6. Сколько раз в год нужно мыть рук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1628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 в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060640"/>
            <a:ext cx="7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ме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ряз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191628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 в мес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50864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7. Что делать, если брюки зацепились за гвоздь и порвалис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916280"/>
            <a:ext cx="3671640" cy="129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ять и идти без 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060640"/>
            <a:ext cx="79200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92640"/>
            <a:ext cx="3672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орвать брюч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сделать шор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365720"/>
            <a:ext cx="367164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йти до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заш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1916280"/>
            <a:ext cx="3672000" cy="129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клеи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орвавший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сок жвач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437000"/>
            <a:ext cx="865080" cy="863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2060640"/>
            <a:ext cx="718920" cy="790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437000"/>
            <a:ext cx="792360" cy="792360"/>
          </a:xfrm>
          <a:prstGeom prst="diamond">
            <a:avLst/>
          </a:prstGeom>
          <a:solidFill>
            <a:srgbClr val="ff66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9:17:55Z</dcterms:created>
  <dc:creator>Comp 11</dc:creator>
  <dc:description/>
  <dc:language>en-US</dc:language>
  <cp:lastModifiedBy>Comp 11</cp:lastModifiedBy>
  <dcterms:modified xsi:type="dcterms:W3CDTF">2010-09-09T08:27:18Z</dcterms:modified>
  <cp:revision>22</cp:revision>
  <dc:subject/>
  <dc:title>Слайд 1</dc:title>
</cp:coreProperties>
</file>